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DA3-20EB-4BD7-BACA-499C36C2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8D0-622D-4BE2-9F2E-F0594BB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E1F-3080-4237-B9B2-169A40AF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5D5-F771-4705-B1E6-8ACA7A9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F050-C13C-42B0-A43B-DD180706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813-674E-4453-AACE-1DE5DD4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C092-62A8-459B-955F-18260D04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BE3B-5CD9-4247-9B92-CB39913B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97D3-481E-455E-A698-559384F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E2F4-BAAD-4380-8970-7D0BBD9B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56D5-E2A0-4770-9E61-A7F9A0B8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97A-8D19-4D1A-8E1B-0C03A99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96C6-DC0B-4913-B6E9-05F2259F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0EDE-F38C-47E6-AFD8-79E3AFF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AC6E-2263-418B-9A78-0563D3C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1A3F-7ADF-47BF-AF33-9A9E9FE5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DE13-37E6-4615-ACA4-AB59DE6A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1D3B1-CACA-4B21-B356-AA3EBB1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8D9E0-64FC-46EF-A941-D7FB31BA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FF052-B3BE-4BC6-A549-8A600FA2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D817B-EA75-4549-889F-A40B34A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817F2-869B-4741-B000-3898E57D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7EA-E332-4144-A03F-959D2CF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3FFA-A3E0-440C-9D18-9F19C933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C52CB-9582-4635-8C70-A7B1C57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2FFAE-4C26-4297-9879-2AA6E8A6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2CC1E-4055-4078-8198-2381239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3333E-9524-4C4A-918C-FF39A4F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52D87-7853-437A-AA51-797EAED0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55680-1897-48E2-98D1-3181F7B0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CFA2-46BB-4D33-81AC-089E167E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E039-9C4A-41FC-A757-2CD6B980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7CD18-EBE6-4A4F-95A1-1069695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A44-CF1A-4C52-9D83-A33D220E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5506-3976-4B33-9A5A-6C2D2E22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48D92-0C67-4932-8800-1A4D2AFC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78F2-57E0-4F6A-AC8D-FC5A9534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1B61-6AC0-4D83-AD60-4BC28FB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0D20-57B1-48E9-8A64-8BC20D6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AF2A-5B01-4B8A-A058-FDB1088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F73C-AE48-42CF-A9BD-6B36064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1550-4A10-476F-9E00-D5DB06C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2AC8-F2EB-425F-811E-60A2821E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85DCA-6EFB-4787-8A1F-372BBDCA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45B-6ADA-4B88-9B39-261BE7F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6C477-561D-413F-94E5-3522487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76E87-EB92-44AD-833F-0087CD68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31B9B-8C4C-4937-9615-F3FAA0D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A9207-4D53-49B7-99E4-65BB0638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F69E6-1223-457D-B765-F101FC03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0B256-E841-4AC0-9C13-1B4E397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2303-5C93-46B9-BEA0-89D2A0C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D159B-ABBA-4678-BF23-30D5F6B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7E620-E5F4-49D8-8EC2-0A406B35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D9F12-82DC-434D-B7C1-60822061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D70-C7CD-4AED-A530-37D261B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E628E-78D7-4858-A302-FBF61BE7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B08B6-ADE9-4C47-A600-FC168DB4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21814-91A4-4D73-97A9-6B3E2DA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556A2-A023-4924-BB9F-279FF532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23B76-46B6-4E4D-B5DF-8869646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6D28D6-91CA-4010-8954-195EC3DD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CAABD-0245-4717-82D7-F1377FE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7FA69-D93B-4768-AC2B-77BBF3AF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7AD13-2815-4EE7-A71C-A6AE128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B2162-1B20-41E3-B6A9-F6E0B2CB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872-E3A8-45B5-B29C-E96609AD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9A575-35CE-43EB-BCDE-38C254D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FC41C-89E0-46B8-A81E-C2822D19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F4D63-935B-470C-8714-6230931C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7C8CE-2E2D-466F-8F1C-C7F9F6A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0FF85-4C73-41EF-AD0C-90B16A90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AB6DE-DBFC-45DB-A00B-927A9A6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E018F-32DA-497B-AD09-E95D8474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A0E52-1B36-48EA-AB33-2781C03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BCAAB-EB85-4691-AACD-F1DCE1E7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0404E-7A60-4086-BB39-3E04D825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4C2-22D8-4DC5-AFAF-0DB81AB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BFB2A-BCBE-4091-9FC7-5932B0D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32AEC-EDA6-47DE-AAB5-BA0DF1DA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66404-5BAE-4EA7-AF37-B101E097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E1529-AC20-42B3-AB5A-460B37A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56265-CFDF-418C-8569-620CB376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A92-F784-4E70-BB0B-A8E1020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F41-3E76-43F8-BEA3-525111BB71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3D4-D1B8-4644-A09E-16AE34FACF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F1B-A8D6-4628-B781-C3CF484B79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5163-4586-4EFE-9AB2-13A54B50D8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AB1-BDA4-4AC2-A7FC-A126F00076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82D-B006-4923-B76A-8E27CEEEBF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90F6-1229-4234-B3A8-A32E639C67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6426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Monotype Corsiva"/>
              </a:rPr>
              <a:t>СИММЕТРИЯ ВОКРУГ НАС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ВСЕ ЦЕРКВИ, ХРАМЫ И МЕЧЕТИ ПОСТРОЕНЫ НА СИММЕТРИ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ИМЕЮТ ОСИ И ЦЕНТРЫ СИММЕТР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Содержимое 3" descr="220px-NotreDameDeParis.jpg"/>
          <p:cNvPicPr/>
          <p:nvPr/>
        </p:nvPicPr>
        <p:blipFill>
          <a:blip r:embed="rId1"/>
          <a:stretch/>
        </p:blipFill>
        <p:spPr>
          <a:xfrm>
            <a:off x="428760" y="2000160"/>
            <a:ext cx="2636640" cy="3500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800px-Badshahi_Mosque_July_1_2005_pic32_by_Ali_Imran_(1).jpg"/>
          <p:cNvPicPr/>
          <p:nvPr/>
        </p:nvPicPr>
        <p:blipFill>
          <a:blip r:embed="rId2"/>
          <a:stretch/>
        </p:blipFill>
        <p:spPr>
          <a:xfrm>
            <a:off x="3071880" y="285768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ЫВОД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ОПОРЦИЯ, КОТОРАЯ ПРИСУТСТВУЕТ В СИММЕТРИИ , ВНОСИТ КРАСОТУ  В АРХИТЕКТУРУ.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Monotype Corsiva"/>
              </a:rPr>
              <a:t>СИММЕТРИЯ-ДУША  ГАРМОНИИ</a:t>
            </a:r>
            <a:r>
              <a:rPr b="1" lang="ru-RU" sz="2800" spc="-1" strike="noStrike">
                <a:solidFill>
                  <a:srgbClr val="e75c01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Содержимое 7" descr="IMG_2072"/>
          <p:cNvPicPr/>
          <p:nvPr/>
        </p:nvPicPr>
        <p:blipFill>
          <a:blip r:embed="rId1"/>
          <a:srcRect l="16838" t="0" r="17008" b="24562"/>
          <a:stretch/>
        </p:blipFill>
        <p:spPr>
          <a:xfrm>
            <a:off x="214200" y="214308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DSCN1263"/>
          <p:cNvPicPr/>
          <p:nvPr/>
        </p:nvPicPr>
        <p:blipFill>
          <a:blip r:embed="rId2"/>
          <a:srcRect l="0" t="9699" r="6199" b="7888"/>
          <a:stretch/>
        </p:blipFill>
        <p:spPr>
          <a:xfrm>
            <a:off x="4500720" y="2000160"/>
            <a:ext cx="3786120" cy="31435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DSC04811"/>
          <p:cNvPicPr/>
          <p:nvPr/>
        </p:nvPicPr>
        <p:blipFill>
          <a:blip r:embed="rId3"/>
          <a:stretch/>
        </p:blipFill>
        <p:spPr>
          <a:xfrm>
            <a:off x="3214800" y="435780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75c01"/>
                </a:solidFill>
                <a:latin typeface="Monotype Corsiva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ЦЕЛИ НАШИХ ИССЛЕДОВАНИЙ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, где в окружающем нас мире встречается симметр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работать в коллективе и с печатными источниками информа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928440"/>
            <a:ext cx="642924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75c01"/>
                </a:solidFill>
                <a:latin typeface="Monotype Corsiva"/>
              </a:rPr>
              <a:t>СИММЕТРИЯ  В  АРХИТЕКТУРЕ</a:t>
            </a:r>
            <a:r>
              <a:rPr b="1" lang="ru-RU" sz="3600" spc="-1" strike="noStrike">
                <a:solidFill>
                  <a:srgbClr val="e75c01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5714640" y="4143240"/>
            <a:ext cx="3143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ыполнил учени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2 ого  класса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ОУ гимназия №4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амиков Рамис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Рисунок 3" descr="P1050825.JPG"/>
          <p:cNvPicPr/>
          <p:nvPr/>
        </p:nvPicPr>
        <p:blipFill>
          <a:blip r:embed="rId1"/>
          <a:stretch/>
        </p:blipFill>
        <p:spPr>
          <a:xfrm>
            <a:off x="2279520" y="3352680"/>
            <a:ext cx="31575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ИММЕТРИЯ- ОТ ГРЕЧ. «SYMMETRIA 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РАЗМЕРНОСТЬ, ПРОПОРЦИОНАЛЬНОСТ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Содержимое 3" descr="384528_86.jpg"/>
          <p:cNvPicPr/>
          <p:nvPr/>
        </p:nvPicPr>
        <p:blipFill>
          <a:blip r:embed="rId1"/>
          <a:stretch/>
        </p:blipFill>
        <p:spPr>
          <a:xfrm>
            <a:off x="523800" y="1901880"/>
            <a:ext cx="4449960" cy="43765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149621_59.jpg"/>
          <p:cNvPicPr/>
          <p:nvPr/>
        </p:nvPicPr>
        <p:blipFill>
          <a:blip r:embed="rId2"/>
          <a:stretch/>
        </p:blipFill>
        <p:spPr>
          <a:xfrm>
            <a:off x="5357880" y="1571760"/>
            <a:ext cx="339876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689616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РЕКРАСНЫЕ ОБРАЗЦЫ СИММЕТРИИ ДЕМОНСТРИРУЮТ ПРОИЗВЕДЕНИЯ АРХИТЕКТУРЫ.</a:t>
            </a:r>
            <a:br>
              <a:rPr sz="3600"/>
            </a:b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Рисунок 4" descr="i.jpeg"/>
          <p:cNvPicPr/>
          <p:nvPr/>
        </p:nvPicPr>
        <p:blipFill>
          <a:blip r:embed="rId1"/>
          <a:stretch/>
        </p:blipFill>
        <p:spPr>
          <a:xfrm>
            <a:off x="6286680" y="1500120"/>
            <a:ext cx="2160360" cy="30290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оп.jpeg"/>
          <p:cNvPicPr/>
          <p:nvPr/>
        </p:nvPicPr>
        <p:blipFill>
          <a:blip r:embed="rId2"/>
          <a:stretch/>
        </p:blipFill>
        <p:spPr>
          <a:xfrm>
            <a:off x="142920" y="1714680"/>
            <a:ext cx="3143160" cy="294624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3" descr="1364835.jpg"/>
          <p:cNvPicPr/>
          <p:nvPr/>
        </p:nvPicPr>
        <p:blipFill>
          <a:blip r:embed="rId3"/>
          <a:stretch/>
        </p:blipFill>
        <p:spPr>
          <a:xfrm>
            <a:off x="3143160" y="3571920"/>
            <a:ext cx="3071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ПРИМЕРЫ СИММЕТР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адж-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ахал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Содержимое 9" descr="439px-Taj_02.jpg"/>
          <p:cNvPicPr/>
          <p:nvPr/>
        </p:nvPicPr>
        <p:blipFill>
          <a:blip r:embed="rId1"/>
          <a:stretch/>
        </p:blipFill>
        <p:spPr>
          <a:xfrm>
            <a:off x="2643120" y="1214280"/>
            <a:ext cx="5286600" cy="50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971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ЕЧЕТЬ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Л ШАРИФ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11" descr="280px-Мечеть_Кул_Шариф,_2009.jpg"/>
          <p:cNvPicPr/>
          <p:nvPr/>
        </p:nvPicPr>
        <p:blipFill>
          <a:blip r:embed="rId1"/>
          <a:srcRect l="-13991" t="0" r="-13991" b="0"/>
          <a:stretch/>
        </p:blipFill>
        <p:spPr>
          <a:xfrm>
            <a:off x="1857240" y="214200"/>
            <a:ext cx="69296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85920" y="285840"/>
            <a:ext cx="27147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МЕЧЕТЬ ГАЛ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. БАВЛ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Содержимое 3" descr="IMG_2012"/>
          <p:cNvPicPr/>
          <p:nvPr/>
        </p:nvPicPr>
        <p:blipFill>
          <a:blip r:embed="rId1"/>
          <a:srcRect l="21621" t="0" r="16214" b="0"/>
          <a:stretch/>
        </p:blipFill>
        <p:spPr>
          <a:xfrm>
            <a:off x="500040" y="357120"/>
            <a:ext cx="4929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859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РАМ ИМЕНИ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ЕПОДОБНОГО СЕРАФИМА САРОВСКОГО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Содержимое 3" descr="IMG_2065"/>
          <p:cNvPicPr/>
          <p:nvPr/>
        </p:nvPicPr>
        <p:blipFill>
          <a:blip r:embed="rId1"/>
          <a:srcRect l="12214" t="0" r="25258" b="0"/>
          <a:stretch/>
        </p:blipFill>
        <p:spPr>
          <a:xfrm>
            <a:off x="3071880" y="428760"/>
            <a:ext cx="4786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04-27T19:02:00Z</dcterms:modified>
  <cp:revision>15</cp:revision>
  <dc:subject/>
  <dc:title>Симметрия  в  архитектуре.</dc:title>
</cp:coreProperties>
</file>